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017A-F055-4A95-995A-984D6777F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934A-44D5-4C5E-8A4F-30D00C29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38C4-D1BC-4B5D-B879-A7E931DC1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3864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1516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3864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1516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A255-CFFA-40ED-9AB5-8410AE20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F9F5-B11B-4D3D-8026-8B5CF603A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7053-2599-4DF1-982D-3C9DB34C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6A55-1A70-4E7D-AB67-92D356BF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6D2F-B07D-4545-B4B6-366A3B46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9F71-EE56-4F1B-8D76-2D60DCB6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71B5-4B59-4D99-8484-62F044FA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32DF-FE5B-4389-8EE2-7FA69287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A9FF-29CD-4202-A3AD-C6DA14B5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A2AE-FBA2-424B-8A98-3F76AF35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58B3-C388-4383-81FE-2F5D0BD1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8A60-9DB3-420B-9B08-E1AC948F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8494-5BC5-4EC6-A5CA-D13FD9A46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3864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1516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3864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1516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16B6-1C3A-49B2-A131-DBAABE155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7310-E466-4912-B97C-B5666602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565D-FF38-4F6E-8DB4-9CB7A2A5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B3A4-1BE7-42CB-92F4-1B596359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C1B7-0057-4BED-8E9D-6627229E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4DE7-8088-4842-AF16-7E29B6D4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8A77-C002-42BD-9CB9-C9535BA2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F7B5-A36E-4309-B253-6626F413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320" y="1066680"/>
            <a:ext cx="8991360" cy="5562720"/>
            <a:chOff x="76320" y="1066680"/>
            <a:chExt cx="8991360" cy="5562720"/>
          </a:xfrm>
        </p:grpSpPr>
        <p:grpSp>
          <p:nvGrpSpPr>
            <p:cNvPr id="1" name=""/>
            <p:cNvGrpSpPr/>
            <p:nvPr/>
          </p:nvGrpSpPr>
          <p:grpSpPr>
            <a:xfrm>
              <a:off x="152280" y="1218960"/>
              <a:ext cx="8839440" cy="5258160"/>
              <a:chOff x="152280" y="1218960"/>
              <a:chExt cx="8839440" cy="5258160"/>
            </a:xfrm>
          </p:grpSpPr>
          <p:sp>
            <p:nvSpPr>
              <p:cNvPr id="2" name=""/>
              <p:cNvSpPr/>
              <p:nvPr/>
            </p:nvSpPr>
            <p:spPr>
              <a:xfrm>
                <a:off x="304920" y="1371600"/>
                <a:ext cx="8534160" cy="4952880"/>
              </a:xfrm>
              <a:custGeom>
                <a:avLst/>
                <a:gdLst>
                  <a:gd name="textAreaLeft" fmla="*/ 267480 w 8534160"/>
                  <a:gd name="textAreaRight" fmla="*/ 8266680 w 8534160"/>
                  <a:gd name="textAreaTop" fmla="*/ 267480 h 4952880"/>
                  <a:gd name="textAreaBottom" fmla="*/ 4685400 h 4952880"/>
                </a:gdLst>
                <a:ahLst/>
                <a:rect l="textAreaLeft" t="textAreaTop" r="textAreaRight" b="textAreaBottom"/>
                <a:pathLst>
                  <a:path w="37217" h="21600">
                    <a:moveTo>
                      <a:pt x="1650" y="0"/>
                    </a:moveTo>
                    <a:arcTo wR="1650" hR="1650" stAng="0" swAng="5400000"/>
                    <a:lnTo>
                      <a:pt x="0" y="19950"/>
                    </a:lnTo>
                    <a:arcTo wR="1650" hR="1650" stAng="16200000" swAng="5400000"/>
                    <a:lnTo>
                      <a:pt x="35567" y="21600"/>
                    </a:lnTo>
                    <a:arcTo wR="1650" hR="1650" stAng="10800000" swAng="5400000"/>
                    <a:lnTo>
                      <a:pt x="37217" y="1650"/>
                    </a:lnTo>
                    <a:arcTo wR="1650" hR="1650" stAng="5400000" swAng="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rot="5400000">
                <a:off x="-1866960" y="3771720"/>
                <a:ext cx="4191120" cy="152640"/>
              </a:xfrm>
              <a:custGeom>
                <a:avLst/>
                <a:gdLst>
                  <a:gd name="textAreaLeft" fmla="*/ 1242360 w 4191120"/>
                  <a:gd name="textAreaRight" fmla="*/ 2948760 w 419112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rot="10800000">
                <a:off x="762120" y="1218600"/>
                <a:ext cx="7619760" cy="152280"/>
              </a:xfrm>
              <a:custGeom>
                <a:avLst/>
                <a:gdLst>
                  <a:gd name="textAreaLeft" fmla="*/ 2259000 w 7619760"/>
                  <a:gd name="textAreaRight" fmla="*/ 5360760 w 7619760"/>
                  <a:gd name="textAreaTop" fmla="*/ 45000 h 152280"/>
                  <a:gd name="textAreaBottom" fmla="*/ 10728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38080" y="6324480"/>
                <a:ext cx="7620120" cy="152640"/>
              </a:xfrm>
              <a:custGeom>
                <a:avLst/>
                <a:gdLst>
                  <a:gd name="textAreaLeft" fmla="*/ 2259000 w 7620120"/>
                  <a:gd name="textAreaRight" fmla="*/ 5361120 w 762012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rot="16200000">
                <a:off x="6858000" y="3733560"/>
                <a:ext cx="4114800" cy="152640"/>
              </a:xfrm>
              <a:custGeom>
                <a:avLst/>
                <a:gdLst>
                  <a:gd name="textAreaLeft" fmla="*/ 1220040 w 4114800"/>
                  <a:gd name="textAreaRight" fmla="*/ 2894760 w 411480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76320" y="1066680"/>
              <a:ext cx="761760" cy="762120"/>
              <a:chOff x="76320" y="1066680"/>
              <a:chExt cx="761760" cy="7621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22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1040" dir="2520846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8305920" y="1066680"/>
              <a:ext cx="761760" cy="762120"/>
              <a:chOff x="8305920" y="1066680"/>
              <a:chExt cx="761760" cy="762120"/>
            </a:xfrm>
          </p:grpSpPr>
          <p:sp>
            <p:nvSpPr>
              <p:cNvPr id="11" name=""/>
              <p:cNvSpPr/>
              <p:nvPr/>
            </p:nvSpPr>
            <p:spPr>
              <a:xfrm>
                <a:off x="83059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5456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15171" dir="577685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76320" y="5867280"/>
              <a:ext cx="761760" cy="762120"/>
              <a:chOff x="76320" y="5867280"/>
              <a:chExt cx="761760" cy="762120"/>
            </a:xfrm>
          </p:grpSpPr>
          <p:sp>
            <p:nvSpPr>
              <p:cNvPr id="14" name=""/>
              <p:cNvSpPr/>
              <p:nvPr/>
            </p:nvSpPr>
            <p:spPr>
              <a:xfrm>
                <a:off x="76320" y="58672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52280" y="607392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27703" dir="3397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8305920" y="5867280"/>
              <a:ext cx="761760" cy="762120"/>
              <a:chOff x="8305920" y="5867280"/>
              <a:chExt cx="761760" cy="762120"/>
            </a:xfrm>
          </p:grpSpPr>
          <p:sp>
            <p:nvSpPr>
              <p:cNvPr id="17" name=""/>
              <p:cNvSpPr/>
              <p:nvPr/>
            </p:nvSpPr>
            <p:spPr>
              <a:xfrm>
                <a:off x="8305920" y="58672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534520" y="607392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819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914400" y="6477120"/>
            <a:ext cx="1371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2362320" y="6459120"/>
            <a:ext cx="41148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457680"/>
            <a:ext cx="16765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BED9-B556-4BDE-80B6-EE4CCFAEC9F3}" type="slidenum">
              <a:rPr b="0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76320" y="1066680"/>
            <a:ext cx="8991360" cy="4496040"/>
            <a:chOff x="76320" y="1066680"/>
            <a:chExt cx="8991360" cy="4496040"/>
          </a:xfrm>
        </p:grpSpPr>
        <p:grpSp>
          <p:nvGrpSpPr>
            <p:cNvPr id="61" name=""/>
            <p:cNvGrpSpPr/>
            <p:nvPr/>
          </p:nvGrpSpPr>
          <p:grpSpPr>
            <a:xfrm>
              <a:off x="152280" y="1218960"/>
              <a:ext cx="8839440" cy="4115160"/>
              <a:chOff x="152280" y="1218960"/>
              <a:chExt cx="8839440" cy="4115160"/>
            </a:xfrm>
          </p:grpSpPr>
          <p:sp>
            <p:nvSpPr>
              <p:cNvPr id="62" name=""/>
              <p:cNvSpPr/>
              <p:nvPr/>
            </p:nvSpPr>
            <p:spPr>
              <a:xfrm>
                <a:off x="304920" y="1371600"/>
                <a:ext cx="8534160" cy="3809880"/>
              </a:xfrm>
              <a:custGeom>
                <a:avLst/>
                <a:gdLst>
                  <a:gd name="textAreaLeft" fmla="*/ 205560 w 8534160"/>
                  <a:gd name="textAreaRight" fmla="*/ 8328600 w 8534160"/>
                  <a:gd name="textAreaTop" fmla="*/ 205560 h 3809880"/>
                  <a:gd name="textAreaBottom" fmla="*/ 3604320 h 3809880"/>
                </a:gdLst>
                <a:ahLst/>
                <a:rect l="textAreaLeft" t="textAreaTop" r="textAreaRight" b="textAreaBottom"/>
                <a:pathLst>
                  <a:path w="48382" h="21600">
                    <a:moveTo>
                      <a:pt x="1650" y="0"/>
                    </a:moveTo>
                    <a:arcTo wR="1650" hR="1650" stAng="0" swAng="5400000"/>
                    <a:lnTo>
                      <a:pt x="0" y="19950"/>
                    </a:lnTo>
                    <a:arcTo wR="1650" hR="1650" stAng="16200000" swAng="5400000"/>
                    <a:lnTo>
                      <a:pt x="46732" y="21600"/>
                    </a:lnTo>
                    <a:arcTo wR="1650" hR="1650" stAng="10800000" swAng="5400000"/>
                    <a:lnTo>
                      <a:pt x="48382" y="1650"/>
                    </a:lnTo>
                    <a:arcTo wR="1650" hR="1650" stAng="5400000" swAng="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5400000">
                <a:off x="-1333440" y="3238200"/>
                <a:ext cx="3124440" cy="152640"/>
              </a:xfrm>
              <a:custGeom>
                <a:avLst/>
                <a:gdLst>
                  <a:gd name="textAreaLeft" fmla="*/ 926280 w 3124440"/>
                  <a:gd name="textAreaRight" fmla="*/ 2198160 w 312444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10800000">
                <a:off x="762120" y="1218600"/>
                <a:ext cx="7619760" cy="152280"/>
              </a:xfrm>
              <a:custGeom>
                <a:avLst/>
                <a:gdLst>
                  <a:gd name="textAreaLeft" fmla="*/ 2259000 w 7619760"/>
                  <a:gd name="textAreaRight" fmla="*/ 5360760 w 7619760"/>
                  <a:gd name="textAreaTop" fmla="*/ 45000 h 152280"/>
                  <a:gd name="textAreaBottom" fmla="*/ 10728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38080" y="5181480"/>
                <a:ext cx="7620120" cy="152640"/>
              </a:xfrm>
              <a:custGeom>
                <a:avLst/>
                <a:gdLst>
                  <a:gd name="textAreaLeft" fmla="*/ 2259000 w 7620120"/>
                  <a:gd name="textAreaRight" fmla="*/ 5361120 w 762012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7353000" y="3237840"/>
                <a:ext cx="3124440" cy="152640"/>
              </a:xfrm>
              <a:custGeom>
                <a:avLst/>
                <a:gdLst>
                  <a:gd name="textAreaLeft" fmla="*/ 926280 w 3124440"/>
                  <a:gd name="textAreaRight" fmla="*/ 2198160 w 312444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76320" y="1066680"/>
              <a:ext cx="761760" cy="762120"/>
              <a:chOff x="76320" y="1066680"/>
              <a:chExt cx="761760" cy="762120"/>
            </a:xfrm>
          </p:grpSpPr>
          <p:sp>
            <p:nvSpPr>
              <p:cNvPr id="68" name=""/>
              <p:cNvSpPr/>
              <p:nvPr/>
            </p:nvSpPr>
            <p:spPr>
              <a:xfrm>
                <a:off x="763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522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1040" dir="2520846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8305920" y="1066680"/>
              <a:ext cx="761760" cy="762120"/>
              <a:chOff x="8305920" y="1066680"/>
              <a:chExt cx="761760" cy="762120"/>
            </a:xfrm>
          </p:grpSpPr>
          <p:sp>
            <p:nvSpPr>
              <p:cNvPr id="71" name=""/>
              <p:cNvSpPr/>
              <p:nvPr/>
            </p:nvSpPr>
            <p:spPr>
              <a:xfrm>
                <a:off x="83059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5456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15171" dir="577685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76320" y="4800600"/>
              <a:ext cx="761760" cy="762120"/>
              <a:chOff x="76320" y="4800600"/>
              <a:chExt cx="761760" cy="762120"/>
            </a:xfrm>
          </p:grpSpPr>
          <p:sp>
            <p:nvSpPr>
              <p:cNvPr id="74" name=""/>
              <p:cNvSpPr/>
              <p:nvPr/>
            </p:nvSpPr>
            <p:spPr>
              <a:xfrm>
                <a:off x="76320" y="48006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52280" y="500724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27703" dir="3397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8229600" y="4800600"/>
              <a:ext cx="761760" cy="762120"/>
              <a:chOff x="8229600" y="4800600"/>
              <a:chExt cx="761760" cy="762120"/>
            </a:xfrm>
          </p:grpSpPr>
          <p:sp>
            <p:nvSpPr>
              <p:cNvPr id="77" name=""/>
              <p:cNvSpPr/>
              <p:nvPr/>
            </p:nvSpPr>
            <p:spPr>
              <a:xfrm>
                <a:off x="8229600" y="48006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458200" y="500724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819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1519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2438280" y="6248160"/>
            <a:ext cx="4267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D1BB-37C7-4FF7-B80E-F49B2F027F32}" type="slidenum">
              <a:rPr b="0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0000"/>
            </a:gs>
            <a:gs pos="100000">
              <a:srgbClr val="3538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538ff"/>
                </a:solidFill>
                <a:latin typeface="Arial"/>
              </a:rPr>
              <a:t>Circular Motion and Gravitation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38ff"/>
                </a:solidFill>
                <a:latin typeface="Arial"/>
              </a:rPr>
              <a:t>Chapter 7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oncept check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733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Object rotates in a circle on the end of a string. Is there a force on the object?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What causes the force?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string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 what direction is the force?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(Inward)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59" name="" descr="08-43Figure_FIG.jpg"/>
          <p:cNvPicPr/>
          <p:nvPr/>
        </p:nvPicPr>
        <p:blipFill>
          <a:blip r:embed="rId1"/>
          <a:srcRect l="35499" t="0" r="0" b="9525"/>
          <a:stretch/>
        </p:blipFill>
        <p:spPr>
          <a:xfrm>
            <a:off x="4648320" y="3021120"/>
            <a:ext cx="3733560" cy="238896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1917720" y="3276720"/>
            <a:ext cx="7224120" cy="1695960"/>
            <a:chOff x="1917720" y="3276720"/>
            <a:chExt cx="7224120" cy="1695960"/>
          </a:xfrm>
        </p:grpSpPr>
        <p:grpSp>
          <p:nvGrpSpPr>
            <p:cNvPr id="161" name=""/>
            <p:cNvGrpSpPr/>
            <p:nvPr/>
          </p:nvGrpSpPr>
          <p:grpSpPr>
            <a:xfrm>
              <a:off x="1917720" y="3284640"/>
              <a:ext cx="7066080" cy="1688040"/>
              <a:chOff x="1917720" y="3284640"/>
              <a:chExt cx="7066080" cy="1688040"/>
            </a:xfrm>
          </p:grpSpPr>
          <p:sp>
            <p:nvSpPr>
              <p:cNvPr id="162" name=""/>
              <p:cNvSpPr/>
              <p:nvPr/>
            </p:nvSpPr>
            <p:spPr>
              <a:xfrm flipH="1" flipV="1">
                <a:off x="7151760" y="4092840"/>
                <a:ext cx="1101600" cy="3168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380440" y="4145040"/>
                <a:ext cx="603360" cy="972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917720" y="3355200"/>
                <a:ext cx="6355800" cy="1617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769" y="3510"/>
                    </a:moveTo>
                    <a:arcTo wR="10800" hR="10800" stAng="-2547204" swAng="254720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769" y="3510"/>
                    </a:moveTo>
                    <a:arcTo wR="10800" hR="10800" stAng="-2547204" swAng="2547204"/>
                  </a:path>
                </a:pathLst>
              </a:custGeom>
              <a:noFill/>
              <a:ln w="38160">
                <a:solidFill>
                  <a:srgbClr val="0000ff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8316720" y="3284640"/>
                <a:ext cx="0" cy="819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6950160" y="3276720"/>
              <a:ext cx="2191680" cy="1176120"/>
              <a:chOff x="6950160" y="3276720"/>
              <a:chExt cx="2191680" cy="1176120"/>
            </a:xfrm>
          </p:grpSpPr>
          <p:sp>
            <p:nvSpPr>
              <p:cNvPr id="167" name=""/>
              <p:cNvSpPr/>
              <p:nvPr/>
            </p:nvSpPr>
            <p:spPr>
              <a:xfrm>
                <a:off x="6950160" y="40845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Arial"/>
                    <a:ea typeface="Arial"/>
                  </a:rPr>
                  <a:t>A</a:t>
                </a:r>
                <a:endParaRPr b="0" lang="en-US" sz="18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399440" y="32767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B</a:t>
                </a:r>
                <a:endParaRPr b="0" lang="en-US" sz="18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390160" y="32767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C</a:t>
                </a:r>
                <a:endParaRPr b="0" lang="en-US" sz="18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796600" y="37465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D</a:t>
                </a:r>
                <a:endParaRPr b="0" lang="en-US" sz="18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entripetal Force Examples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733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47960" y="1523880"/>
            <a:ext cx="373356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523800" y="1527120"/>
            <a:ext cx="3403800" cy="2983320"/>
            <a:chOff x="523800" y="1527120"/>
            <a:chExt cx="3403800" cy="2983320"/>
          </a:xfrm>
        </p:grpSpPr>
        <p:grpSp>
          <p:nvGrpSpPr>
            <p:cNvPr id="175" name=""/>
            <p:cNvGrpSpPr/>
            <p:nvPr/>
          </p:nvGrpSpPr>
          <p:grpSpPr>
            <a:xfrm>
              <a:off x="523800" y="1527120"/>
              <a:ext cx="3403800" cy="2419200"/>
              <a:chOff x="523800" y="1527120"/>
              <a:chExt cx="3403800" cy="2419200"/>
            </a:xfrm>
          </p:grpSpPr>
          <p:pic>
            <p:nvPicPr>
              <p:cNvPr id="176" name="" descr="08-39Figure_FIG.jpg"/>
              <p:cNvPicPr/>
              <p:nvPr/>
            </p:nvPicPr>
            <p:blipFill>
              <a:blip r:embed="rId2"/>
              <a:srcRect l="16443" t="0" r="13925" b="59836"/>
              <a:stretch/>
            </p:blipFill>
            <p:spPr>
              <a:xfrm>
                <a:off x="523800" y="1527120"/>
                <a:ext cx="3403800" cy="241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"/>
              <p:cNvSpPr/>
              <p:nvPr/>
            </p:nvSpPr>
            <p:spPr>
              <a:xfrm>
                <a:off x="929520" y="1565280"/>
                <a:ext cx="116640" cy="104760"/>
              </a:xfrm>
              <a:prstGeom prst="ellipse">
                <a:avLst/>
              </a:prstGeom>
              <a:solidFill>
                <a:srgbClr val="fc0000"/>
              </a:solidFill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835200" y="3806640"/>
              <a:ext cx="2732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Arial"/>
                  <a:ea typeface="Arial"/>
                </a:rPr>
                <a:t>Friction force (tires) is centripetal.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343400" y="1219320"/>
            <a:ext cx="4307040" cy="2103480"/>
            <a:chOff x="4343400" y="1219320"/>
            <a:chExt cx="4307040" cy="2103480"/>
          </a:xfrm>
        </p:grpSpPr>
        <p:grpSp>
          <p:nvGrpSpPr>
            <p:cNvPr id="180" name=""/>
            <p:cNvGrpSpPr/>
            <p:nvPr/>
          </p:nvGrpSpPr>
          <p:grpSpPr>
            <a:xfrm>
              <a:off x="4343400" y="1219320"/>
              <a:ext cx="4307040" cy="2103480"/>
              <a:chOff x="4343400" y="1219320"/>
              <a:chExt cx="4307040" cy="2103480"/>
            </a:xfrm>
          </p:grpSpPr>
          <p:pic>
            <p:nvPicPr>
              <p:cNvPr id="181" name="" descr="08-43Figure_FIG.jpg"/>
              <p:cNvPicPr/>
              <p:nvPr/>
            </p:nvPicPr>
            <p:blipFill>
              <a:blip r:embed="rId3"/>
              <a:srcRect l="35499" t="0" r="0" b="9525"/>
              <a:stretch/>
            </p:blipFill>
            <p:spPr>
              <a:xfrm>
                <a:off x="4430880" y="1219320"/>
                <a:ext cx="4098960" cy="184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>
                <a:off x="4343400" y="2923920"/>
                <a:ext cx="430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Tension force (string) is centripetal.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 flipH="1" flipV="1">
              <a:off x="6488280" y="1977840"/>
              <a:ext cx="1270080" cy="504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209680" y="3994560"/>
            <a:ext cx="5130720" cy="2745360"/>
            <a:chOff x="2209680" y="3994560"/>
            <a:chExt cx="5130720" cy="2745360"/>
          </a:xfrm>
        </p:grpSpPr>
        <p:pic>
          <p:nvPicPr>
            <p:cNvPr id="185" name="" descr=""/>
            <p:cNvPicPr/>
            <p:nvPr/>
          </p:nvPicPr>
          <p:blipFill>
            <a:blip r:embed="rId4"/>
            <a:srcRect l="0" t="0" r="0" b="19902"/>
            <a:stretch/>
          </p:blipFill>
          <p:spPr>
            <a:xfrm>
              <a:off x="4959360" y="4267080"/>
              <a:ext cx="2381040" cy="18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5070240" y="4393800"/>
              <a:ext cx="127080" cy="127080"/>
            </a:xfrm>
            <a:prstGeom prst="ellipse">
              <a:avLst/>
            </a:prstGeom>
            <a:solidFill>
              <a:srgbClr val="f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73640" y="4584600"/>
              <a:ext cx="444600" cy="4442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19514400">
              <a:off x="4618800" y="4348080"/>
              <a:ext cx="1878480" cy="203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3399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09680" y="4786200"/>
              <a:ext cx="2432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Arial"/>
                  <a:ea typeface="Arial"/>
                </a:rPr>
                <a:t>Gravity force (on satellite due to Earth) is centripeta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Hurricanes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17524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Hurricane’s strength (wind speed) depends on how low the pressure gets in the center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733920" cy="4525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666880" y="1676520"/>
            <a:ext cx="6210360" cy="43653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7184160" y="5726160"/>
            <a:ext cx="1194120" cy="307080"/>
          </a:xfrm>
          <a:prstGeom prst="rect">
            <a:avLst/>
          </a:prstGeom>
          <a:solidFill>
            <a:srgbClr val="003399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Rita, 9/22/05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952160" y="3048120"/>
            <a:ext cx="1523880" cy="159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1663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166332"/>
              </a:path>
            </a:pathLst>
          </a:custGeom>
          <a:noFill/>
          <a:ln w="381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64160" y="3429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90960" y="3571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05520" y="3809880"/>
            <a:ext cx="7110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32720" y="4732200"/>
            <a:ext cx="3378240" cy="1313640"/>
          </a:xfrm>
          <a:prstGeom prst="rect">
            <a:avLst/>
          </a:prstGeom>
          <a:solidFill>
            <a:srgbClr val="003399">
              <a:alpha val="51000"/>
            </a:srgbClr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H – High Pressur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L – Low Pressur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  <a:ea typeface="Arial"/>
              </a:rPr>
              <a:t>F – Centripetal Forc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  <a:ea typeface="Arial"/>
              </a:rPr>
              <a:t>due to pressure differenc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3280" y="3429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  <a:ea typeface="Arial"/>
              </a:rPr>
              <a:t>F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entrifugal Force?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733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hen a centripetal force acts on an object, it appears to the object that there is an outward force. Call this apparent force the </a:t>
            </a:r>
            <a:r>
              <a:rPr b="0" lang="en-US" sz="2800" spc="-1" strike="noStrike">
                <a:solidFill>
                  <a:srgbClr val="fc0000"/>
                </a:solidFill>
                <a:latin typeface="Arial"/>
              </a:rPr>
              <a:t>centrifugal force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000"/>
                </a:solidFill>
                <a:latin typeface="Arial"/>
              </a:rPr>
              <a:t>There’s no such thing!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03" name="" descr="08-44Figure_FIG.jpg"/>
          <p:cNvPicPr/>
          <p:nvPr/>
        </p:nvPicPr>
        <p:blipFill>
          <a:blip r:embed="rId1"/>
          <a:stretch/>
        </p:blipFill>
        <p:spPr>
          <a:xfrm>
            <a:off x="4876920" y="1676520"/>
            <a:ext cx="3733560" cy="17492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08-46Figure_FIG.jpg"/>
          <p:cNvPicPr/>
          <p:nvPr/>
        </p:nvPicPr>
        <p:blipFill>
          <a:blip r:embed="rId2"/>
          <a:stretch/>
        </p:blipFill>
        <p:spPr>
          <a:xfrm>
            <a:off x="5029200" y="3733920"/>
            <a:ext cx="4114800" cy="1749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648320" y="213372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  <a:ea typeface="Arial"/>
              </a:rPr>
              <a:t>What we se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7960" y="3886200"/>
            <a:ext cx="145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  <a:ea typeface="Arial"/>
              </a:rPr>
              <a:t>What th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  <a:ea typeface="Arial"/>
              </a:rPr>
              <a:t>insect feel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Demo: Bucket over head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487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an I put a bucket full of water over my head without getting wet by rotating it fast enough?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rces exerted on the water by gravity plus support force of the bucket are centripetal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pparent centrifugal force presses the water into the bucket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What really happens here?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647960" y="1600200"/>
            <a:ext cx="373356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rcRect l="0" t="0" r="0" b="14940"/>
          <a:stretch/>
        </p:blipFill>
        <p:spPr>
          <a:xfrm>
            <a:off x="6696000" y="2216160"/>
            <a:ext cx="1492200" cy="43466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946920" y="2362320"/>
            <a:ext cx="203040" cy="1143000"/>
          </a:xfrm>
          <a:prstGeom prst="line">
            <a:avLst/>
          </a:prstGeom>
          <a:ln w="38160">
            <a:solidFill>
              <a:srgbClr val="33cc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264440" y="2550960"/>
            <a:ext cx="1282680" cy="642600"/>
          </a:xfrm>
          <a:prstGeom prst="rect">
            <a:avLst/>
          </a:prstGeom>
          <a:solidFill>
            <a:srgbClr val="ffffff">
              <a:alpha val="19000"/>
            </a:srgbClr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Centripeta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Forc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6743520" y="1345680"/>
            <a:ext cx="177480" cy="939960"/>
          </a:xfrm>
          <a:prstGeom prst="line">
            <a:avLst/>
          </a:prstGeom>
          <a:ln w="38160">
            <a:solidFill>
              <a:srgbClr val="ff00ff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89760" y="1425600"/>
            <a:ext cx="1282680" cy="642600"/>
          </a:xfrm>
          <a:prstGeom prst="rect">
            <a:avLst/>
          </a:prstGeom>
          <a:solidFill>
            <a:srgbClr val="ffffff">
              <a:alpha val="19000"/>
            </a:srgbClr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Centrifuga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Forc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Simulated Gravity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733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entrifugal force could be used to simulate gravity in a space station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With the right rate of rotation a person on the outer rim would feel as if they stood on the surface of Earth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cientifically accurate in the movie </a:t>
            </a: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2001: A Space Odyssey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(1968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2855880" cy="452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708240" y="20574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000"/>
                </a:solidFill>
                <a:latin typeface="Arial"/>
                <a:ea typeface="Arial"/>
              </a:rPr>
              <a:t>Rotatio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21227400">
            <a:off x="5692320" y="2091600"/>
            <a:ext cx="1396800" cy="2373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Example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 model airplane has a mass of .90 kg and moves at a constant speed on a circle that is parallel to the ground. The length of the string that its held by is 17m.  It takes 8.2 seconds to make one complete circle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) Find the tangential speed of the plane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B) Find the centripetal acceleration of the plane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) Find the centripetal force of the plane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Example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A model airplane has a mass of .90 kg and moves at a constant speed on a circle that is parallel to the ground. The length of the string that its held by is 17m.  It takes 8.2 seconds to make one complete circle.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A) Find the tangential speed of the plane.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B) Find the centripetal acceleration of the plane.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C) Find the centripetal force on the plane.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Example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619760" cy="34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Given that tires have a coefficient of static friction µ= .72, what is the maximum tangential speed a vehicle can have around a 30m radius turn on the flat ground before sliding?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5400000">
            <a:off x="5257800" y="3276360"/>
            <a:ext cx="3200400" cy="24386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543800" y="3886200"/>
            <a:ext cx="380880" cy="83808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838080"/>
              <a:gd name="textAreaBottom" fmla="*/ 819720 h 838080"/>
            </a:gdLst>
            <a:ahLst/>
            <a:rect l="textAreaLeft" t="textAreaTop" r="textAreaRight" b="textAreaBottom"/>
            <a:pathLst>
              <a:path w="21600" h="47504">
                <a:moveTo>
                  <a:pt x="3600" y="0"/>
                </a:moveTo>
                <a:arcTo wR="3600" hR="3600" stAng="16200000" swAng="-5400000"/>
                <a:lnTo>
                  <a:pt x="0" y="43904"/>
                </a:lnTo>
                <a:arcTo wR="3600" hR="3600" stAng="10800000" swAng="-5400000"/>
                <a:lnTo>
                  <a:pt x="18000" y="47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48720" y="4800600"/>
            <a:ext cx="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7696080" y="4800240"/>
            <a:ext cx="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7010280" y="4648320"/>
            <a:ext cx="53352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43434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c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= F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238880" y="48769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848720" y="4952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mg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5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nswer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105160" y="2895480"/>
            <a:ext cx="38098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c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= m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000" spc="-1" strike="noStrike" baseline="30000">
                <a:solidFill>
                  <a:srgbClr val="003399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/r ≤ µ F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0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/r ≤ µ m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000" spc="-1" strike="noStrike" baseline="30000">
                <a:solidFill>
                  <a:srgbClr val="003399"/>
                </a:solidFill>
                <a:latin typeface="Arial"/>
              </a:rPr>
              <a:t>2 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≤ µ g 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≤ √ (.72)(9.8)(30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≤ </a:t>
            </a:r>
            <a:r>
              <a:rPr b="0" lang="en-US" sz="2000" spc="-1" strike="noStrike">
                <a:solidFill>
                  <a:srgbClr val="a2ff28"/>
                </a:solidFill>
                <a:latin typeface="Arial"/>
              </a:rPr>
              <a:t>14.5 m/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42670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70ff"/>
                </a:solidFill>
                <a:latin typeface="Times New Roman"/>
              </a:rPr>
              <a:t>Terms to be familiar with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6996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Rotational Motion: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Objects that are spinning or rotating about an axi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Circular Motion: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Objects that are traveling in circular path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505320" y="3276720"/>
            <a:ext cx="365760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More definitions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69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Uniform Circular Motion (UCM)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: objects that are traveling in a circular path at a constant radius , at a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onstant tangential speed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Tangential speed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1" lang="en-US" sz="2800" spc="-1" strike="noStrike" baseline="-25000">
                <a:solidFill>
                  <a:srgbClr val="003399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-instantaneous velocity vector at any point on the path. This vector is always perpendicular to the radius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4724280"/>
            <a:ext cx="1295640" cy="1295640"/>
          </a:xfrm>
          <a:prstGeom prst="ellipse">
            <a:avLst/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38280" y="4724280"/>
            <a:ext cx="2971800" cy="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26320" y="4784760"/>
            <a:ext cx="262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angent line i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perpendicular to th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adiu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733920" y="4724280"/>
            <a:ext cx="0" cy="60984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17600" y="5630760"/>
            <a:ext cx="43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4876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33920" y="4724280"/>
            <a:ext cx="152280" cy="152640"/>
          </a:xfrm>
          <a:prstGeom prst="rect">
            <a:avLst/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7.1:Circular Motion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peed is distance over tim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 = d/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or objects in circular motion, the distance is equal to the circumference of the circle and time is the time period for one complete circle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refore,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 = circumference / time perio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4572000"/>
            <a:ext cx="144792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7.1 continued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6520" y="1600200"/>
            <a:ext cx="3735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3399"/>
                </a:solidFill>
                <a:latin typeface="Lucida Grande"/>
              </a:rPr>
              <a:t>π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/ 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T is the time for one revolution or one period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s is essentially distance divided by time because 2</a:t>
            </a:r>
            <a:r>
              <a:rPr b="0" lang="en-US" sz="2000" spc="-1" strike="noStrike">
                <a:solidFill>
                  <a:srgbClr val="003399"/>
                </a:solidFill>
                <a:latin typeface="Lucida Grande"/>
              </a:rPr>
              <a:t>π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 is circumference of the path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velocity vector points tangent to the path of tra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373536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entripetal Acceleration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1752480"/>
            <a:ext cx="73152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f an object undergoing circular motion it must be changing its direction constantly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f an object is changing its direction, it must be changing its velocity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f an object is changing its velocity, it must be accelerating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We call this type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centripetal acceleratio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03400" y="2430360"/>
            <a:ext cx="264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entripetal Acceleration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00600" y="1904760"/>
            <a:ext cx="37339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 =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t</a:t>
            </a:r>
            <a:r>
              <a:rPr b="0" lang="en-US" sz="20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/ 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ntripetal acceleration is the acceleration that exists for objects traveling in a circular pat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ntripetal acceleration (as its name suggests) always points towards the center of the circular path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114800" cy="3886200"/>
          </a:xfrm>
          <a:prstGeom prst="rect">
            <a:avLst/>
          </a:prstGeom>
          <a:ln w="57240">
            <a:solidFill>
              <a:srgbClr val="ffcc00"/>
            </a:solidFill>
            <a:prstDash val="lgDash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14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14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7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4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entripetal Force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ccording to Newton, any acceleration must be caused by an outside, unbalanced, force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erefore, centripetal acceleration must be caused by a centripetal force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entripetal force can be found using Newton’s Second Law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∑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= m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3399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= m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3399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3399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= m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v</a:t>
            </a:r>
            <a:r>
              <a:rPr b="1" lang="en-US" sz="2400" spc="-1" strike="noStrike" baseline="-25000">
                <a:solidFill>
                  <a:srgbClr val="003399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/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267080" y="3809880"/>
            <a:ext cx="2743200" cy="2160720"/>
            <a:chOff x="4267080" y="3809880"/>
            <a:chExt cx="2743200" cy="2160720"/>
          </a:xfrm>
        </p:grpSpPr>
        <p:pic>
          <p:nvPicPr>
            <p:cNvPr id="150" name="" descr="08-39Figure_FIG.jpg"/>
            <p:cNvPicPr/>
            <p:nvPr/>
          </p:nvPicPr>
          <p:blipFill>
            <a:blip r:embed="rId1"/>
            <a:srcRect l="16443" t="0" r="13925" b="59836"/>
            <a:stretch/>
          </p:blipFill>
          <p:spPr>
            <a:xfrm>
              <a:off x="4267080" y="3809880"/>
              <a:ext cx="274320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593960" y="3844080"/>
              <a:ext cx="93960" cy="93600"/>
            </a:xfrm>
            <a:prstGeom prst="ellipse">
              <a:avLst/>
            </a:prstGeom>
            <a:solidFill>
              <a:srgbClr val="fc0000"/>
            </a:solidFill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entripetal Force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entripetal force is the name given to the net force required to keep an object of mass m, moving at a speed v, on a circular path of radius, r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c =mv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2 / 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lways points towards the center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952880" y="2209680"/>
            <a:ext cx="3581640" cy="3608280"/>
            <a:chOff x="4952880" y="2209680"/>
            <a:chExt cx="3581640" cy="3608280"/>
          </a:xfrm>
        </p:grpSpPr>
        <p:pic>
          <p:nvPicPr>
            <p:cNvPr id="155" name="" descr="08-39Figure_FIG.jpg"/>
            <p:cNvPicPr/>
            <p:nvPr/>
          </p:nvPicPr>
          <p:blipFill>
            <a:blip r:embed="rId1"/>
            <a:srcRect l="16443" t="0" r="13925" b="59836"/>
            <a:stretch/>
          </p:blipFill>
          <p:spPr>
            <a:xfrm>
              <a:off x="4952880" y="2209680"/>
              <a:ext cx="3581640" cy="36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379840" y="2266920"/>
              <a:ext cx="122760" cy="156240"/>
            </a:xfrm>
            <a:prstGeom prst="ellipse">
              <a:avLst/>
            </a:prstGeom>
            <a:solidFill>
              <a:srgbClr val="fc0000"/>
            </a:solidFill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12:51:18Z</dcterms:created>
  <dc:creator>psd psd</dc:creator>
  <dc:description/>
  <dc:language>en-US</dc:language>
  <cp:lastModifiedBy>PA Department of Education</cp:lastModifiedBy>
  <dcterms:modified xsi:type="dcterms:W3CDTF">2008-02-20T19:44:47Z</dcterms:modified>
  <cp:revision>57</cp:revision>
  <dc:subject/>
  <dc:title>Dynamics of Uniform Circular Motion</dc:title>
</cp:coreProperties>
</file>